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C357-DD40-46B1-A9F9-54B1DC9F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908-B626-4373-9CBA-297D7E28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8C1-3659-492F-AC22-626E84E3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BDE-78A7-45F6-BBDE-C0DCC074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84C5-A599-4132-8F87-CAF6CE2A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383D-7E25-4AC1-9C0C-36CA6F17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76A3-9264-48E7-AA48-452FFC84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AC24-D346-4AB8-8B19-A1387346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620E-B43B-48B6-AA35-C35EBBAE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5FE2-5293-4D30-A58E-E7E3010F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02D6-81D9-4869-95A6-FB3485A4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F68-68EB-4848-8ECA-B639EAF4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305B-7979-4410-881E-F9D906CA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D42D-8293-405C-AB40-0FFDA188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C4B1-1FAF-4F2E-BB9A-ABE33423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FB1C-474A-4CF3-A42A-16187AB5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C18A-EE7D-4066-A0FA-FCB78FA4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2A5-3DA6-4ECF-A30C-53789E45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688-286D-4B59-8E04-76621166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FD6-8A50-4B66-920D-ED25C7E3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8FF-D39A-431A-A964-D79FDBD6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797-1FB8-4D9B-ADCF-B2E55312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A6F-52E4-472D-8B5C-0F6AD27C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7F1-ACA4-4EF3-8151-57B494C4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0D37-D7E2-4216-8FDE-E293517D5E93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ECEB-AA6A-45C1-8933-20BF712A70C6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hyperlink" Target="http://www.sdl-forum.org/sdl2000present/sld001.htm" TargetMode="External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404176"/>
                </a:solidFill>
                <a:latin typeface="Arial"/>
              </a:rPr>
              <a:t>Formal methods in system design </a:t>
            </a:r>
            <a:br>
              <a:rPr sz="3600"/>
            </a:br>
            <a:r>
              <a:rPr b="0" lang="et-EE" sz="2800" spc="-1" strike="noStrike">
                <a:solidFill>
                  <a:srgbClr val="404176"/>
                </a:solidFill>
                <a:latin typeface="Arial"/>
              </a:rPr>
              <a:t>Spring 2005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383ad"/>
                </a:solidFill>
                <a:latin typeface="Arial"/>
              </a:rPr>
              <a:t>Prof. Jüri Vain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806D-DA93-47C5-83F4-658C1CFAFEC9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ormal Method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rmal = mathematica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thematical models </a:t>
            </a:r>
            <a:r>
              <a:rPr b="0" lang="et-E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precise semantic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phasizes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tati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/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ymboli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reasoning about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bstraction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standard definition of verification falls into this category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Too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arrow view in digital design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only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quivalence and model checking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, but there is much mor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t esoteric: compilation in a broad sense is a formal metho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high-level description is translated into low-level description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r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focu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tool</a:t>
            </a:r>
            <a:r>
              <a:rPr b="0" lang="et-EE" sz="2000" spc="-1" strike="noStrike" u="sng">
                <a:solidFill>
                  <a:srgbClr val="003366"/>
                </a:solidFill>
                <a:uFillTx/>
                <a:latin typeface="Arial"/>
              </a:rPr>
              <a:t>-base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reasoning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bout programs and system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D35-3A5A-4E7B-A004-996778D02E7F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ormal Methods Class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914400" y="1981080"/>
            <a:ext cx="6477120" cy="4114800"/>
            <a:chOff x="914400" y="1981080"/>
            <a:chExt cx="6477120" cy="4114800"/>
          </a:xfrm>
        </p:grpSpPr>
        <p:pic>
          <p:nvPicPr>
            <p:cNvPr id="468" name="" descr=""/>
            <p:cNvPicPr/>
            <p:nvPr/>
          </p:nvPicPr>
          <p:blipFill>
            <a:blip r:embed="rId1"/>
            <a:stretch/>
          </p:blipFill>
          <p:spPr>
            <a:xfrm>
              <a:off x="914400" y="1981080"/>
              <a:ext cx="64771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 txBox="1"/>
            <p:nvPr/>
          </p:nvSpPr>
          <p:spPr>
            <a:xfrm>
              <a:off x="914400" y="1981080"/>
              <a:ext cx="647712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524-01BB-4FD6-94A3-4084277535AE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ormal Spec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= stating properties, behavior, structure of some artifact formall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Formaliza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abstracts from unnecessary implementation detail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provides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high-level mathematical model of the system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very useful for high-level design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s when implementation details are not clear yet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llows to avoi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ambiguous or inconsistent specifications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Difficulties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no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(practical)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tools for refinement / checking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good example: ASM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(Gurevich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3CD-D87B-43D8-A47C-D54736FA20AA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ormal Synthesi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238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6E96-8B0D-4EF9-8CC4-91F5C7502DC3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ormal Synthesis</a:t>
            </a:r>
            <a:r>
              <a:rPr b="0" lang="et-EE" sz="4400" spc="-1" strike="noStrike">
                <a:solidFill>
                  <a:srgbClr val="404176"/>
                </a:solidFill>
                <a:latin typeface="Arial"/>
              </a:rPr>
              <a:t> I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integrates verification in the development proces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usually pure top-down design and incremental refinement step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splits large verification tasks (divide et impera)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but forces dramatic change in development proces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it works but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it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is costl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each refinement step uses formal verification method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re powerful verification algorithms allow more automa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good example: B-Metho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8A8-A145-4AE1-9867-13A7AD7F149A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Layered System Desig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029200" cy="26622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590920" y="4327560"/>
            <a:ext cx="5715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no implementation without Synthesi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rification is added value (Quality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both processes are incrementa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both processes can be formal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ize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2A2-481B-4716-A496-8F5CCE1645C3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Formal Ver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Gener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assumption: specification and system are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define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1200"/>
                </a:solidFill>
                <a:latin typeface="Arial"/>
                <a:ea typeface="Arial"/>
              </a:rPr>
              <a:t>formal verification checks </a:t>
            </a:r>
            <a:r>
              <a:rPr b="0" lang="et-EE" sz="2000" spc="-1" strike="noStrike">
                <a:solidFill>
                  <a:srgbClr val="fe1200"/>
                </a:solidFill>
                <a:latin typeface="Arial"/>
              </a:rPr>
              <a:t>whether</a:t>
            </a:r>
            <a:r>
              <a:rPr b="0" lang="en-US" sz="2000" spc="-1" strike="noStrike">
                <a:solidFill>
                  <a:srgbClr val="fe1200"/>
                </a:solidFill>
                <a:latin typeface="Arial"/>
                <a:ea typeface="Arial"/>
              </a:rPr>
              <a:t> </a:t>
            </a:r>
            <a:r>
              <a:rPr b="0" lang="et-EE" sz="2000" spc="-1" strike="noStrike">
                <a:solidFill>
                  <a:srgbClr val="fe1200"/>
                </a:solidFill>
                <a:latin typeface="Arial"/>
              </a:rPr>
              <a:t>implementations satisfies properties of </a:t>
            </a:r>
            <a:r>
              <a:rPr b="0" lang="en-US" sz="2000" spc="-1" strike="noStrike">
                <a:solidFill>
                  <a:srgbClr val="fe1200"/>
                </a:solidFill>
                <a:latin typeface="Arial"/>
                <a:ea typeface="Arial"/>
              </a:rPr>
              <a:t>specification</a:t>
            </a:r>
            <a:r>
              <a:rPr b="0" lang="et-EE" sz="2000" spc="-1" strike="noStrike">
                <a:solidFill>
                  <a:srgbClr val="fe1200"/>
                </a:solidFill>
                <a:latin typeface="Arial"/>
              </a:rPr>
              <a:t> or not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full blown verification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,e.g.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“post mortem verification” is difficult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simplifications: focus on simple partial specifications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feature orientation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type safety, functional equivalence of systems,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ethods (implemented in tools)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simple algorithms for deducing properties directly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complex algorithms for hard or even undecidable problem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A9D4-D3E1-4BD8-9512-B128FB717EFF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boolean methods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SAT, BDDs, ATPG, Combinational Equivalence Checkin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finite state methods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Bisimulation and Equivalence Checking of Automata,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del Checkin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term based methods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Term Rewriting, Resolution, Tableaux, Theorem Provin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bstraction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(eg SLAM uses BDDs, Model Checking, Theorem Proving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377-24DE-4E01-8C43-A802C8FC6336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3366"/>
                </a:solidFill>
                <a:latin typeface="Arial"/>
              </a:rPr>
              <a:t>Foci of the cours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formal techniques: deductive verification, MC, refinemen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tools representing different theoretical background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"/>
              </a:rPr>
              <a:t>How does it work?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366"/>
                </a:solidFill>
                <a:latin typeface="Arial"/>
              </a:rPr>
              <a:t>Arhitecture/ Capacity and restriction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"/>
              </a:rPr>
              <a:t>Theoretical background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366"/>
                </a:solidFill>
                <a:latin typeface="Arial"/>
              </a:rPr>
              <a:t>Semantics / Algorithms / Datastructure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"/>
              </a:rPr>
              <a:t>Tool in work: hands-on experience with Uppaal, Blast, PVS, …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Labs: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"/>
              </a:rPr>
              <a:t>Read-write over unreliable channel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"/>
              </a:rPr>
              <a:t>Self-stabilizing system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"/>
              </a:rPr>
              <a:t>FMS schedulin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AAD-E7C0-4462-8EB1-2DF763766F77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erver for experi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ols that run under Linux will be available in this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chine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have X server (you run Linux, FreeBSD,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cOSX, ...) then just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Unicode MS"/>
              </a:rPr>
              <a:t>&gt; ssh -X dijkstra.cs.ttu.e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der Windows you need additional software, e.g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Win32 (commercial), to run programs with GUI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om dikstra.cs.ttu.ee. You can use shell account b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ing e.g. Putty as the client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DEF-254A-4E96-AF75-27850BFEAD89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404176"/>
                </a:solidFill>
                <a:latin typeface="Arial"/>
              </a:rPr>
              <a:t>Course organization 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66"/>
                </a:solidFill>
                <a:latin typeface="Arial"/>
              </a:rPr>
              <a:t>Lecture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366"/>
                </a:solidFill>
                <a:latin typeface="Arial"/>
              </a:rPr>
              <a:t>Wednesday 10.00 – 11.30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366"/>
                </a:solidFill>
                <a:latin typeface="Arial"/>
              </a:rPr>
              <a:t>Room IT140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66"/>
                </a:solidFill>
                <a:latin typeface="Arial"/>
              </a:rPr>
              <a:t>Lab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366"/>
                </a:solidFill>
                <a:latin typeface="Arial"/>
              </a:rPr>
              <a:t>Wednesday 12.00 – 13.30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366"/>
                </a:solidFill>
                <a:latin typeface="Arial"/>
              </a:rPr>
              <a:t>Room IT213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BC6-839A-4629-87A8-7431B2B6CED3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404176"/>
                </a:solidFill>
                <a:latin typeface="Arial"/>
              </a:rPr>
              <a:t>Home reading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15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8383ad"/>
                </a:solidFill>
                <a:latin typeface="Arial"/>
              </a:rPr>
              <a:t>Formal methods homepage http://vl.fmnet.info/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 Unicode MS"/>
                <a:ea typeface="Times New Roman"/>
              </a:rPr>
              <a:t>Formal Methods Europe: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383ad"/>
                </a:solidFill>
                <a:latin typeface="Arial Unicode MS"/>
                <a:ea typeface="Times New Roman"/>
              </a:rPr>
              <a:t>www.fmeurope.or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315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8383ad"/>
                </a:solidFill>
                <a:latin typeface="Arial"/>
              </a:rPr>
              <a:t>Mike Gordon: Specification and Verification 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.</a:t>
            </a:r>
            <a:r>
              <a:rPr b="0" lang="et-EE" sz="20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8383ad"/>
                </a:solidFill>
                <a:latin typeface="Arial"/>
              </a:rPr>
              <a:t>www.cl.cam.ac.uk/users/mjcg/Teaching/SpecVer1/SpecVer1.html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152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8383ad"/>
                </a:solidFill>
                <a:latin typeface="Arial"/>
              </a:rPr>
              <a:t>Z- method http://www.cs.uiowa.edu/~fleck/181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152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8383ad"/>
                </a:solidFill>
                <a:latin typeface="Arial"/>
              </a:rPr>
              <a:t>ASM http://www.di.unipi.it/~boerger/LC01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152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8383ad"/>
                </a:solidFill>
                <a:latin typeface="Arial"/>
              </a:rPr>
              <a:t>SDL </a:t>
            </a:r>
            <a:r>
              <a:rPr b="0" lang="et-EE" sz="20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c09e4a"/>
                </a:solidFill>
                <a:uFillTx/>
                <a:latin typeface="Arial"/>
                <a:hlinkClick r:id="rId7"/>
              </a:rPr>
              <a:t>http://www.sdl-forum.org/sdl2000present/sld001.htm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152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http://www.sdl-forum.org/sdl2000present/tsld001.htm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152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8383ad"/>
                </a:solidFill>
                <a:latin typeface="Arial"/>
              </a:rPr>
              <a:t>Model checker: Uppaal:  www.docs.uu.se and www.uppaal.com</a:t>
            </a:r>
            <a:br>
              <a:rPr sz="2000"/>
            </a:b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273D-4892-401B-9293-FB3B8707C6B9}" type="slidenum">
              <a:t>20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404176"/>
                </a:solidFill>
                <a:latin typeface="Arial"/>
              </a:rPr>
              <a:t>Course organization I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66"/>
                </a:solidFill>
                <a:latin typeface="Arial"/>
              </a:rPr>
              <a:t>16 lectures, 16 lab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66"/>
                </a:solidFill>
                <a:latin typeface="Arial"/>
              </a:rPr>
              <a:t>3 (small) projec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66"/>
                </a:solidFill>
                <a:latin typeface="Arial"/>
              </a:rPr>
              <a:t>3 tests (&gt; 60% means pas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66"/>
                </a:solidFill>
                <a:latin typeface="Arial"/>
              </a:rPr>
              <a:t>Exam (written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1236-75D0-4B00-859D-6817DCDA52C6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404176"/>
                </a:solidFill>
                <a:latin typeface="Arial"/>
              </a:rPr>
              <a:t>Topics covere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Foundations: models &amp; specifica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Deductive verification of programs using Hoare logi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Algorithmic verification by model check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Verification of RT- and Hybrid Dynamic System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Verifying fault-toleran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Formal methods for synthes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Formal methods and test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D68-AFAB-44BD-B8E7-681F050E1F69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066680" y="2438280"/>
            <a:ext cx="7086600" cy="6858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066680" y="3200400"/>
            <a:ext cx="7086600" cy="7621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Increasing 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omplex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ity of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system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Moore’s Law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: The performance of microprocessors doubles every 18 month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t-EE" sz="2400" spc="-1" strike="noStrike">
                <a:solidFill>
                  <a:srgbClr val="003366"/>
                </a:solidFill>
                <a:latin typeface="Arial"/>
              </a:rPr>
              <a:t>Proebsting’s law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: Compiler technology doubles the performance of typical programs every 18 year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soon 10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transistors/processo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multi-million LOC / O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xploding testing </a:t>
            </a:r>
            <a:r>
              <a:rPr b="0" lang="en-US" sz="2400" spc="-1" strike="noStrike" u="sng">
                <a:solidFill>
                  <a:srgbClr val="fe1200"/>
                </a:solidFill>
                <a:uFillTx/>
                <a:latin typeface="Arial"/>
                <a:ea typeface="Times New Roman"/>
              </a:rPr>
              <a:t>cost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! Cost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n general not linear in system size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  <a:ea typeface="Times New Roman"/>
              </a:rPr>
              <a:t>Motivation</a:t>
            </a:r>
            <a:r>
              <a:rPr b="0" lang="et-EE" sz="3600" spc="-1" strike="noStrike">
                <a:solidFill>
                  <a:srgbClr val="404176"/>
                </a:solidFill>
                <a:latin typeface="Arial"/>
              </a:rPr>
              <a:t> I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6F1-C18F-4C28-8061-C792F2CB0E71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404176"/>
                </a:solidFill>
                <a:latin typeface="Arial"/>
              </a:rPr>
              <a:t>Motivation I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creased dependability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verything important depends on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omputers: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stir by wire, banking,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stock market, workflow,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 u="sng">
                <a:solidFill>
                  <a:srgbClr val="fe1200"/>
                </a:solidFill>
                <a:uFillTx/>
                <a:latin typeface="Arial"/>
              </a:rPr>
              <a:t>Q</a:t>
            </a:r>
            <a:r>
              <a:rPr b="0" lang="en-US" sz="2400" spc="-1" strike="noStrike" u="sng">
                <a:solidFill>
                  <a:srgbClr val="fe1200"/>
                </a:solidFill>
                <a:uFillTx/>
                <a:latin typeface="Arial"/>
                <a:ea typeface="Times New Roman"/>
              </a:rPr>
              <a:t>uality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concer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creased functionality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security, mobility, new business processes, 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5533920" y="1905120"/>
            <a:ext cx="220500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7CA-7A5A-4ECC-9D29-AA14182E3D03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404176"/>
                </a:solidFill>
                <a:latin typeface="Arial"/>
              </a:rPr>
              <a:t>Test &amp; Ver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andard defini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dynami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xecution /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imul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of a system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3366"/>
                </a:solidFill>
                <a:latin typeface="Arial"/>
              </a:rPr>
              <a:t>Present view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: test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have to b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gra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t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development process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treme</a:t>
            </a:r>
            <a:r>
              <a:rPr b="0" i="1" lang="et-EE" sz="2000" spc="-1" strike="noStrike">
                <a:solidFill>
                  <a:srgbClr val="003366"/>
                </a:solidFill>
                <a:latin typeface="Arial"/>
              </a:rPr>
              <a:t> view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testing should “drive” the development proces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erifica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andard defini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tatic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ecking,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ymboli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xecu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rdware design: verification is the process of testin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ur view: Test </a:t>
            </a:r>
            <a:r>
              <a:rPr b="0" lang="et-EE" sz="2000" spc="-1" strike="noStrike">
                <a:solidFill>
                  <a:srgbClr val="003366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erifica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3B2-8810-471B-9486-8A8D098C3670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Implica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Typically &gt;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0% of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development costs ar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ocated to testin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ing and verification are the bottleneck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of developmen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ality dilemma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rop quality for more featur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Challenge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fficient methods for test and verification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r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eeded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Currently </a:t>
            </a:r>
            <a:r>
              <a:rPr b="0" lang="et-EE" sz="2000" spc="-1" strike="noStrike">
                <a:solidFill>
                  <a:srgbClr val="fe12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e1200"/>
                </a:solidFill>
                <a:latin typeface="Arial"/>
              </a:rPr>
              <a:t>ormal verific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s the most promising approach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Tre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formal verification </a:t>
            </a:r>
            <a:r>
              <a:rPr b="0" lang="et-EE" sz="2000" spc="-1" strike="noStrike">
                <a:solidFill>
                  <a:srgbClr val="003366"/>
                </a:solidFill>
                <a:latin typeface="Symbol"/>
                <a:ea typeface="Symbol"/>
              </a:rPr>
              <a:t>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fe1200"/>
                </a:solidFill>
                <a:latin typeface="Arial"/>
              </a:rPr>
              <a:t>forma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(model-based)</a:t>
            </a:r>
            <a:r>
              <a:rPr b="0" lang="en-US" sz="2000" spc="-1" strike="noStrike">
                <a:solidFill>
                  <a:srgbClr val="fe1200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perts in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formal method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badly needed in high-tech industr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359E-8CC0-473E-90C9-FB8A13612BA0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404176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953240" y="2975040"/>
            <a:ext cx="1828080" cy="151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4908600" y="2975040"/>
            <a:ext cx="16120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4921200" y="2895120"/>
            <a:ext cx="1434240" cy="259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11" y="57"/>
                </a:moveTo>
                <a:arcTo wR="10800" hR="10800" stAng="-5045712" swAng="5045712"/>
                <a:lnTo>
                  <a:pt x="10800" y="10800"/>
                </a:lnTo>
                <a:close/>
              </a:path>
              <a:path fill="none" w="21600" h="21600">
                <a:moveTo>
                  <a:pt x="11911" y="57"/>
                </a:moveTo>
                <a:arcTo wR="10800" hR="10800" stAng="-5045712" swAng="5045712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092560" y="2822040"/>
            <a:ext cx="1702080" cy="273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04" y="584"/>
                </a:moveTo>
                <a:arcTo wR="10800" hR="10800" stAng="-4264189" swAng="4026350"/>
                <a:lnTo>
                  <a:pt x="10800" y="10800"/>
                </a:lnTo>
                <a:close/>
              </a:path>
              <a:path fill="none" w="21600" h="21600">
                <a:moveTo>
                  <a:pt x="14304" y="584"/>
                </a:moveTo>
                <a:arcTo wR="10800" hR="10800" stAng="-4264189" swAng="40263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371240" y="3809880"/>
            <a:ext cx="290880" cy="587520"/>
            <a:chOff x="1371240" y="3809880"/>
            <a:chExt cx="290880" cy="587520"/>
          </a:xfrm>
        </p:grpSpPr>
        <p:sp>
          <p:nvSpPr>
            <p:cNvPr id="404" name=""/>
            <p:cNvSpPr/>
            <p:nvPr/>
          </p:nvSpPr>
          <p:spPr>
            <a:xfrm>
              <a:off x="1436040" y="3809880"/>
              <a:ext cx="161640" cy="168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00480" y="3977640"/>
              <a:ext cx="360" cy="25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1403640" y="4228920"/>
              <a:ext cx="9720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00480" y="4229280"/>
              <a:ext cx="9720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1500480" y="3977640"/>
              <a:ext cx="16164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1371240" y="3977640"/>
              <a:ext cx="12924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3691080" y="4102200"/>
            <a:ext cx="19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76520" y="3733920"/>
            <a:ext cx="457200" cy="344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830400" y="3787920"/>
            <a:ext cx="292320" cy="587160"/>
            <a:chOff x="3830400" y="3787920"/>
            <a:chExt cx="292320" cy="587160"/>
          </a:xfrm>
        </p:grpSpPr>
        <p:sp>
          <p:nvSpPr>
            <p:cNvPr id="413" name=""/>
            <p:cNvSpPr/>
            <p:nvPr/>
          </p:nvSpPr>
          <p:spPr>
            <a:xfrm>
              <a:off x="3895560" y="3787920"/>
              <a:ext cx="162360" cy="168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0360" y="3955320"/>
              <a:ext cx="360" cy="25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863160" y="4206600"/>
              <a:ext cx="9756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0360" y="4206960"/>
              <a:ext cx="9756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3960360" y="3955320"/>
              <a:ext cx="16236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flipV="1">
              <a:off x="3830400" y="3955320"/>
              <a:ext cx="12996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714640" y="3657600"/>
            <a:ext cx="290880" cy="587520"/>
            <a:chOff x="5714640" y="3657600"/>
            <a:chExt cx="290880" cy="587520"/>
          </a:xfrm>
        </p:grpSpPr>
        <p:sp>
          <p:nvSpPr>
            <p:cNvPr id="420" name=""/>
            <p:cNvSpPr/>
            <p:nvPr/>
          </p:nvSpPr>
          <p:spPr>
            <a:xfrm>
              <a:off x="5779440" y="3657600"/>
              <a:ext cx="161640" cy="168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43880" y="3825360"/>
              <a:ext cx="360" cy="25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747040" y="4076640"/>
              <a:ext cx="9720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43880" y="4077000"/>
              <a:ext cx="9720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843880" y="3825360"/>
              <a:ext cx="16164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5714640" y="3825360"/>
              <a:ext cx="12924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640120" y="5280120"/>
            <a:ext cx="292320" cy="587160"/>
            <a:chOff x="5640120" y="5280120"/>
            <a:chExt cx="292320" cy="587160"/>
          </a:xfrm>
        </p:grpSpPr>
        <p:sp>
          <p:nvSpPr>
            <p:cNvPr id="427" name=""/>
            <p:cNvSpPr/>
            <p:nvPr/>
          </p:nvSpPr>
          <p:spPr>
            <a:xfrm>
              <a:off x="5705280" y="5280120"/>
              <a:ext cx="162360" cy="168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70080" y="5447520"/>
              <a:ext cx="360" cy="25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5672880" y="5698800"/>
              <a:ext cx="9756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70080" y="5699160"/>
              <a:ext cx="9756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5770080" y="5447520"/>
              <a:ext cx="16236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5640120" y="5447520"/>
              <a:ext cx="12996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649840" y="2514600"/>
            <a:ext cx="292320" cy="587520"/>
            <a:chOff x="5649840" y="2514600"/>
            <a:chExt cx="292320" cy="587520"/>
          </a:xfrm>
        </p:grpSpPr>
        <p:sp>
          <p:nvSpPr>
            <p:cNvPr id="434" name=""/>
            <p:cNvSpPr/>
            <p:nvPr/>
          </p:nvSpPr>
          <p:spPr>
            <a:xfrm>
              <a:off x="5714640" y="2514600"/>
              <a:ext cx="162720" cy="168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79440" y="2682360"/>
              <a:ext cx="360" cy="25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682240" y="2933640"/>
              <a:ext cx="9756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79440" y="2934000"/>
              <a:ext cx="9756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5779440" y="2682360"/>
              <a:ext cx="16272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5649840" y="2682360"/>
              <a:ext cx="13032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299120" y="3886200"/>
            <a:ext cx="1126800" cy="360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"/>
              </a:rPr>
              <a:t>SPEC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076640" y="410220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87840" y="410220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53040" y="4106880"/>
            <a:ext cx="1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41960" y="5791320"/>
            <a:ext cx="1165320" cy="30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 Unicode MS"/>
              </a:rPr>
              <a:t>Verifier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2514600"/>
            <a:ext cx="1600200" cy="849240"/>
          </a:xfrm>
          <a:prstGeom prst="cloudCallout">
            <a:avLst>
              <a:gd name="adj1" fmla="val -7439"/>
              <a:gd name="adj2" fmla="val 943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629400" y="4343400"/>
            <a:ext cx="1676520" cy="863640"/>
          </a:xfrm>
          <a:prstGeom prst="cloudCallout">
            <a:avLst>
              <a:gd name="adj1" fmla="val -89393"/>
              <a:gd name="adj2" fmla="val 580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19920" y="1676520"/>
            <a:ext cx="2133360" cy="742680"/>
          </a:xfrm>
          <a:prstGeom prst="cloudCallout">
            <a:avLst>
              <a:gd name="adj1" fmla="val -54240"/>
              <a:gd name="adj2" fmla="val 6431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209680" y="3889440"/>
            <a:ext cx="1527120" cy="5349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366"/>
                </a:solidFill>
                <a:latin typeface="Arial"/>
              </a:rPr>
              <a:t>Informal requirement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324480" y="3809880"/>
            <a:ext cx="1244880" cy="4240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4100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 Unicode MS"/>
              </a:rPr>
              <a:t>User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1720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 Unicode MS"/>
              </a:rPr>
              <a:t>Does the pgm. what’s expected?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62120" y="2666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 Unicode MS"/>
              </a:rPr>
              <a:t>Ideas&amp; wishe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4495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 Unicode MS"/>
              </a:rPr>
              <a:t>Subscriber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002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4495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 Unicode MS"/>
              </a:rPr>
              <a:t>Analy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34120" y="41590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366"/>
                </a:solidFill>
                <a:latin typeface="Arial Unicode MS"/>
              </a:rPr>
              <a:t>Developer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0" y="44197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 Unicode MS"/>
              </a:rPr>
              <a:t>Is the pgm. correct?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124080" y="2133720"/>
            <a:ext cx="2210040" cy="863640"/>
          </a:xfrm>
          <a:prstGeom prst="cloudCallout">
            <a:avLst>
              <a:gd name="adj1" fmla="val -9194"/>
              <a:gd name="adj2" fmla="val 137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276720" y="2362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 Unicode MS"/>
              </a:rPr>
              <a:t>How to formalize?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257800" y="4648320"/>
            <a:ext cx="1127160" cy="360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"/>
              </a:rPr>
              <a:t>Bug repor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79132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79132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8080" y="5257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 Unicode MS"/>
              </a:rPr>
              <a:t>All other feedback flows also possible!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5BE-0D3C-4643-A428-8F6967470268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1:41:57Z</dcterms:created>
  <dc:creator>vain</dc:creator>
  <dc:description/>
  <dc:language>en-US</dc:language>
  <cp:lastModifiedBy>vain</cp:lastModifiedBy>
  <dcterms:modified xsi:type="dcterms:W3CDTF">2005-02-08T20:59:21Z</dcterms:modified>
  <cp:revision>52</cp:revision>
  <dc:subject/>
  <dc:title>Formal methods: verification (fall 2004)</dc:title>
</cp:coreProperties>
</file>